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CA1-7E6F-44E6-BE4B-958D0E29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5B0-B83B-4041-9A90-A9F20C18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417-1554-4EC6-87C8-921BDB76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71F-B7E4-4A4C-9F91-11D468CA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943A-A3A7-40D8-A9A3-DDF1D07E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C0E3-977C-443A-BDB0-A73613D2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8621-852F-45F7-A520-0C3F04AC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D54C-3C38-4801-8FCB-B16AC2C2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16E6-F9DA-4604-8142-F9D44325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5C8F-30A9-468E-9116-A5962584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15B9-B04F-48FC-8B6D-9B4F7EA4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642-6C8F-4D03-800C-8654B5D4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D378-1595-4435-9BF0-140459BD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F4A3-8B18-4687-8E06-6CCEE1CC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8521-7A0A-44D2-8E79-EF25E245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50AD-5D29-498D-9382-86E273E8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004A-38B9-4A7D-9DA2-78231B8C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34DD-517E-4915-B5E5-6B067B52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385DB-E6D1-49AC-A650-03F36CFA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05C46-A0C5-4DD2-87D1-6F2111F2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AB2CB-88F3-4087-B57C-BF4588EB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9434D-95E0-4A80-A33D-D1AC2939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A91-52D0-4ABD-ABB4-1A380E19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4C037-D10A-4FE6-B930-3E5B3294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D1714-7C45-4E3C-BE58-CCA93363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8DB0-4F78-4A95-9493-5877EE87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1B07-6678-42EB-8012-81311C3E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A6C75-65A3-48DE-89D5-4D34C5FF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14C26-F8DA-4088-86A0-27B6A66A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2B3C-D9DF-4213-93E5-8D5450C7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AD2D4-3E05-49FA-A7C0-63424F30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0B4AF-F94B-44AB-B73A-B29B77FD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827A5-4FCC-4E40-BB17-F0824F11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941-0F30-4541-A9A5-E1ADA694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3EA07-DC07-4909-BE96-306AE5FA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CD60C-F96B-44B5-9639-F1A0779F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735F8-91B0-4E5D-BEA5-3DFB3CC2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6E0D9-A127-4211-AF35-2DF0BF2D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F99A1-5967-49CC-AE33-CF4D6548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935C8-52ED-44E8-BBE8-8C9B54A5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D2702-66E6-410D-9AED-094D4688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1F968-A7AF-4FA3-9F06-201013A3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D0D08-2083-4E6B-9375-A279A7DA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FC582-7786-4F68-ADED-23586C22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1C3-1A8A-4FD7-8667-0113C0E9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4E1E3-006E-4AB7-A446-EAB2ED3B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D2151-B66A-4A23-85D0-41397B38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B7D2E-8553-44BD-9269-1092B027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71DE7-BE13-4D3D-9D6D-C581CF4A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9CEC1-9DF4-4494-BA96-3167A7B3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84CBF-53AB-4162-8925-5A645683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30E3C-A5AA-47B0-9CA2-07D9D508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84210-1D0F-4C62-8878-F90D7F65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0845D-47AA-4421-ACF2-21B0DDD2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9004B-202C-405C-A606-F14ED9AE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E71-23D1-4D11-943F-A409A255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4FCCE-14E1-4B50-978E-2D1F6477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D92AD-710C-4317-8CF8-2ED8F5EA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D5DA6-475E-45E0-982C-C3BA482D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CE621-2E65-4292-92EE-9824ECED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BA163-C3D8-4B16-9DF8-74214DF3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CA7AC-0523-4B6B-BD7F-7386AC99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CB132-0A37-4A93-BC89-B761BFBC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49FE2-141F-4350-BAA0-F52FD0D1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EBCB7-299E-4A9A-B91A-60AC3334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49F6F-6AFD-4774-A0CC-CCD56340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E32-DFC1-4172-93A2-6AD5F253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09154-44DB-4ED9-80B9-FD2C081B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A6ED2-CF35-4204-A882-175FC87B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23654-F0B3-48DB-B67B-1E9CBD91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047BC-2429-4984-A15A-D8FF9E94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6F7E4-489B-4C09-85A3-A87AA132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F60B8-B2CB-47BC-89CA-1F962629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C30B7-F3AD-4D21-BB4C-40459656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C74D6-9941-4839-9788-7DA3EE37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85241-4756-47AF-BBC3-97FA201E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A4DB1-D38B-4C51-8858-A4FBA9F7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F09-127E-4186-951D-831A2522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3A962-FB89-4A66-BFA3-0BD3BF8C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9C676-7A79-49F9-B9BF-A4721634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CFA0A-C6D5-4065-832E-5A20C458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C865E-9DBC-41D9-BBA4-DF341A28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4A0C0-705A-4541-AED0-3DF97234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756BF-16FE-4624-9AAC-F603A65F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1894F-0262-4D31-9C92-36B4F2A6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050F3-D268-440F-AF56-42F36A70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AC0DF-7789-45FA-BCB0-D8FF85F1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B0E18-8036-4351-BDD5-4B9F3F9A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AA1-E369-4CDF-B2D0-ABF42762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C9C7C-71D8-489F-A6E8-884DEDF8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C3F3E-F780-4A9D-979B-A22093D2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96B97-ABFD-4797-BE35-36C462E4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A7B73-266D-45A9-88FB-D62A9344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3260F-173E-4593-9599-4409F198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61AD9-6097-435B-99CE-533A0D79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02DC7-E530-47AA-AB18-2A56DD0F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E1E3-4239-44B6-B389-CB8104469C9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8AB9-BAB4-43CF-A95B-4F0A75F1FAE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9CE1-C6A8-4832-B0D7-66FE98EBCB6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C260-8A19-4920-AD14-AFA32E01B5E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84BC-6A76-44FB-90A6-751D952CC0B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F62E-6516-40B1-ACA7-ECF28964BA9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4369-47CF-4A0F-AD99-7AE92A4A6C4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2203-D980-45E3-8A36-B3E5AA4D708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669960"/>
            <a:ext cx="8186760" cy="18716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Lucida Sans Unicode"/>
              </a:rPr>
              <a:t>Learning Objective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o view and participate in a discussion of "Finding Forrester" and to write a follow-up essay that is a comprehensive and persuasive answer to the basic question of interpretation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Copyright Victor Moe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is book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On Writing,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ephen King makes this astounding claim: "If I had not been able to make a career of writing, I am certain that alcohol and drugs would have been my end or I would have done some other vile thing like commit suicide."        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ke notes on five specific ways that Forrester helps Jamal to become a better writer and person an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ke notes five ways that Jamal helps Forrester to find himsel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3"/>
          <p:cNvSpPr/>
          <p:nvPr/>
        </p:nvSpPr>
        <p:spPr>
          <a:xfrm>
            <a:off x="4572000" y="3886200"/>
            <a:ext cx="2590920" cy="2666880"/>
          </a:xfrm>
          <a:prstGeom prst="rect">
            <a:avLst/>
          </a:prstGeom>
          <a:solidFill>
            <a:srgbClr val="ffffff"/>
          </a:solidFill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5"/>
          <p:cNvSpPr/>
          <p:nvPr/>
        </p:nvSpPr>
        <p:spPr>
          <a:xfrm>
            <a:off x="4572000" y="4572000"/>
            <a:ext cx="259092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7"/>
          <p:cNvSpPr/>
          <p:nvPr/>
        </p:nvSpPr>
        <p:spPr>
          <a:xfrm>
            <a:off x="5867280" y="3886200"/>
            <a:ext cx="0" cy="2666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the title refer more to Forrester’s helping Jamal to become a better writer and person or to Jamal’s helping Forrester to find himself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w that you have heard from your peers, in a two paragraph reflection answer the following using your own opinion and citing examples from the fil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oes the title refer more to Forrester’s helping Jamal to become a better writer and person or to Jamal’s helping Forrester to find himself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4:27:43Z</dcterms:created>
  <dc:creator>Kmontalvo</dc:creator>
  <dc:description/>
  <dc:language>en-US</dc:language>
  <cp:lastModifiedBy>Nvasquez</cp:lastModifiedBy>
  <dcterms:modified xsi:type="dcterms:W3CDTF">2011-05-16T14:51:23Z</dcterms:modified>
  <cp:revision>3</cp:revision>
  <dc:subject/>
  <dc:title>Pre Film</dc:title>
</cp:coreProperties>
</file>